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1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E4ED-5F8A-4AE4-BFD4-B81DF6E633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and Emotional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and Emo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 – feeling of sadness loneliness and despai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Histor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life stress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 abu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 – feeling of sadness loneliness and desp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life stres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 ab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identify your source of 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ings into perspec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the positive th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someone you tru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identify your source of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ings into persp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the positive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someone you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ideal - your mental image of what you would like to b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concept – the current mental image you have of yoursel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ideal - your mental image of what you would like to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concept – the current mental image you have of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ques people use to protect themselves from being hur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– 16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ques people use to protect themselves from being h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– 1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low’s Hierarchy of Needs – focusing on the positive aspects of human behavior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organized human need by priori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low’s Hierarchy of Needs – focusing on the positive aspects of human behavi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organized human need by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Mental and Emotional Disord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Mental and Emotional Dis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disorder – mental and emotional disorders resulting from a physical caus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- brain tum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jury – blow  to the he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imbalance – drugs to destroy brain cell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disorder – mental and emotional disorders resulting from a physical caus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- brain tum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jury – blow  to the 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imbalance – drugs to destroy brai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ing Disorders – deep emotional problems related to self – image and self-este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psychiatric treat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among tee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ing Disorders – deep emotional problems related to self – image and self-este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psychiatric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among te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xiety disorder – a condition in which fear or anxiety prevents one from enjoying life and completing everyday task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bias most well know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women then m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xiety disorder – a condition in which fear or anxiety prevents one from enjoying life and completing everyday tas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bias most well kn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women then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Healt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you have about yourself and your abilities to deal with problem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Heal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you have about yourself and your abilities to deal with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ciative disorder – a condition in which someone’s personality changes to the point that the person believes he or she is someone els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nes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ersonality disorde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ciative disorder – a condition in which someone’s personality changes to the point that the person believes he or she is someone 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ersonality disor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Disorder – a condition in which one mood is experienced almost to the exclusion of other feel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Disorder – a condition in which one mood is experienced almost to the exclusion of other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soci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hondr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hond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ing Help IF Yo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prolonged feeling of depression or hopeless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s that life is out of contro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concentrate or make decision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getting along with oth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ing Help IF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prolonged feeling of depression or hopeles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s that life is out of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concentrate or make deci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getting along with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se fea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t difficulty sleep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al problems coping with a physical ill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stop destructive behavi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se f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t difficulty slee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al problems coping with a physical il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stop destructive behavi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reat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analysis – examines unresolved conflict from the pas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therapy – focuses on the persons behavior now rather then the underlying proble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analysis – examines unresolved conflict from the p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therapy – focuses on the persons behavior now rather then the underlying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Therapy- meetings of people with similar problem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herapy – the use of drugs to treat mental and emotional disord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 be dangerous and addictiv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Therapy- meetings of people with simila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herapy – the use of drugs to treat mental and emotional disor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 be dangerous and addict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Esteem – pride in and acceptance of yourself; feeling good about yourself and your abiliti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s at Birt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Esteem – pride in and acceptance of yourself; feeling good about yourself and your abi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s at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mage – the view a person has on his or her bod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elf talk – talking in a positive way to yourself about yoursel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disclosure – telling another person meaningful info about yourself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mage – the view a person has on his or her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elf talk – talking in a positive way to yourself about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disclosure – telling another person meaningful info about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has th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m in a positive way (not negativ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ha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m in a positive way (not negat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teps to Improv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Este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ink about what you are good at, and build on those abiliti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elect supportive and encouraging frie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ractice good health habi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teps to Improv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Este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ink about what you are good at, and build on those a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elect supportive and encouraging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ractice good health ha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Exercise!!!!!!!!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Think posi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wn 3 things that make you happy everyda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goals, be realisti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ware of perfectioni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Exercise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Think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wn 3 things that make you happy every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goals, be reali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ware of perfect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difference in the world, help oth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Volunte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yourself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n !!!!!!!!!!!!!!!!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difference in the world, help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Volunt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yoursel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n !!!!!!!!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Esteem more than any other factors has a direct effect on all 5 aspects of your healt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Esteem more than any other factors has a direct effect on all 5 aspects of your heal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Examp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– strong affection or caring for someon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– feeling of joy and well being or contentme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– strong affection or caring for some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– feeling of joy and well being or conten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ism – feeling that life experiences will be positiv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– a way of expressing some negative emotions in a more positive wa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ism – feeling that life experiences will be posi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– a way of expressing some negative emotions in a more positive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 – feeling of dang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your fears –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talk – saying things to yourself to view the fear more realisticall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planning – rearranging the environment to reduce your fea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 – feeling of dang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your fear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talk – saying things to yourself to view the fear more realist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planning – rearranging the environment to reduce your f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r – strong feeling or irritatio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anger –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emotions appropriately, so that they are posi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your feelings and the source of the ange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r – strong feeling or irritatio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anger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emotions appropriately, so that they are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your feelings and the source of the an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lt – feeling that you have done something wrong or are responsible for something bad happening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alousy – feeling of wanting something that someone else has or of losing something you ha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lt – feeling that you have done something wrong or are responsible for something bad happe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alousy – feeling of wanting something that someone else has or of losing something you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feeling of isolation or alie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yness- being timid or bashfu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feeling of isolation or alie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yness- being timid or bash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3ADD-BB89-4599-A3BC-F6E7C4070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75D2-14E6-4563-94CC-9BAB8AA8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0876-9C50-47E9-991B-C292CC4B8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A120-FC43-46BF-B4E0-B47046CFD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EB8A-40A3-4FA2-8856-581981158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AF83-F692-4215-92AF-0DD10CCB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7501-DB6A-4307-B0F3-0E3E1D76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3C148-7C42-43A4-B7CE-014E98AC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5DE6-DE98-4D6E-99D8-1C0B8D14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29EC-BDF2-4F98-AB01-743AE9C7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1754-0B63-4F7F-930E-C7E1A9DC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37D9-EE67-47C4-99DE-E0C90F6B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CB72-E3C8-4D08-AFFD-5DD08946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B7D3-FD4A-4FBD-81B8-652EEB3D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677B1-8057-4493-A395-96594842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52E8-B581-4823-AF2E-AAC787449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E6AA6-2E26-4C04-8559-065585AC0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B3C8D-BD2A-4DA9-91C1-4EC30D3A5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C5642-27C8-4BE6-A707-65B70199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16C60-9CE8-4921-B20E-4EA3A61C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C011B-7924-42F4-BFF4-BFA00613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A6C41-E336-4186-B8FF-7E7E67A7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8375-3FF1-41AF-BE54-FC211A8A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DE4EE-04B2-42BB-92CE-8D670CDB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23676-5A14-488B-AC7E-53BCD246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05A87-F324-4E0D-841F-C23EB139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D7F9A-83A6-41E9-96B7-A5FE70EC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21BED-AE84-4222-AF4F-0B351247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8E567-44C0-4CC3-B462-36501DC68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AAF57-1A76-4646-A3E9-6260769E8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4A4F-6E76-473A-A841-69F96ADF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2DCE-7927-4797-A7DE-B2DE1DAF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4825-7EE5-4EFE-8090-DADD28F0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A352-9D06-4F63-908D-293D5D3C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5D4A-3F4E-4CF4-BE69-12DAF77E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54AC-0F9E-47AF-BBDC-6FEC8E9D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3D13-C6C5-432E-B440-A820D78423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B365-879A-4284-8F98-3DCF7145C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9B0B-DFAE-494E-9586-97309F168425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447920" y="99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ental and Emotional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ression – feeling of sadness loneliness and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espair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amily Histor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jor life stressor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hysical illnes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ubstance abus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end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175212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naging depress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y to identify your source of depress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ut things into perspecti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Focus on the positive thing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alk to someone you trus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lf ideal - your mental image of what you would like to b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lf concept – the current mental image you have of yourself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Defense Mechanisms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echniques people use to protect themselves from being hurt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age – 16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slow’s Hierarchy of Needs – focusing on the positive aspects of human behavior.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e organized human need by priorit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Diagram 0"/>
          <p:cNvGrpSpPr/>
          <p:nvPr/>
        </p:nvGrpSpPr>
        <p:grpSpPr>
          <a:xfrm>
            <a:off x="2469240" y="1523520"/>
            <a:ext cx="4357440" cy="3918240"/>
            <a:chOff x="2469240" y="1523520"/>
            <a:chExt cx="4357440" cy="3918240"/>
          </a:xfrm>
        </p:grpSpPr>
        <p:sp>
          <p:nvSpPr>
            <p:cNvPr id="190" name="_s1028"/>
            <p:cNvSpPr/>
            <p:nvPr/>
          </p:nvSpPr>
          <p:spPr>
            <a:xfrm flipV="1">
              <a:off x="4212720" y="1523520"/>
              <a:ext cx="870480" cy="783360"/>
            </a:xfrm>
            <a:custGeom>
              <a:avLst/>
              <a:gdLst>
                <a:gd name="textAreaLeft" fmla="*/ 312120 w 870480"/>
                <a:gd name="textAreaRight" fmla="*/ 558360 w 870480"/>
                <a:gd name="textAreaTop" fmla="*/ 281160 h 783360"/>
                <a:gd name="textAreaBottom" fmla="*/ 502200 h 78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Self Actualization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ersonal growth and fulfillmen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_s1029"/>
            <p:cNvSpPr/>
            <p:nvPr/>
          </p:nvSpPr>
          <p:spPr>
            <a:xfrm flipV="1">
              <a:off x="3777120" y="2306160"/>
              <a:ext cx="1741320" cy="783720"/>
            </a:xfrm>
            <a:custGeom>
              <a:avLst/>
              <a:gdLst>
                <a:gd name="textAreaLeft" fmla="*/ 382680 w 1741320"/>
                <a:gd name="textAreaRight" fmla="*/ 1358640 w 1741320"/>
                <a:gd name="textAreaTop" fmla="*/ 172080 h 783720"/>
                <a:gd name="textAreaBottom" fmla="*/ 61164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Esteem needs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chievement, responsibility, reputatio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_s1030"/>
            <p:cNvSpPr/>
            <p:nvPr/>
          </p:nvSpPr>
          <p:spPr>
            <a:xfrm flipV="1">
              <a:off x="3340080" y="3089880"/>
              <a:ext cx="2615760" cy="783720"/>
            </a:xfrm>
            <a:custGeom>
              <a:avLst/>
              <a:gdLst>
                <a:gd name="textAreaLeft" fmla="*/ 453960 w 2615760"/>
                <a:gd name="textAreaRight" fmla="*/ 2161800 w 2615760"/>
                <a:gd name="textAreaTop" fmla="*/ 136080 h 783720"/>
                <a:gd name="textAreaBottom" fmla="*/ 64764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elongingness and love need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amily affection, relationship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_s1031"/>
            <p:cNvSpPr/>
            <p:nvPr/>
          </p:nvSpPr>
          <p:spPr>
            <a:xfrm flipV="1">
              <a:off x="2904480" y="3873600"/>
              <a:ext cx="3486600" cy="783720"/>
            </a:xfrm>
            <a:custGeom>
              <a:avLst/>
              <a:gdLst>
                <a:gd name="textAreaLeft" fmla="*/ 524520 w 3486600"/>
                <a:gd name="textAreaRight" fmla="*/ 2962080 w 3486600"/>
                <a:gd name="textAreaTop" fmla="*/ 117720 h 783720"/>
                <a:gd name="textAreaBottom" fmla="*/ 6660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afety Need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rotection, security, law and ord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_s1032"/>
            <p:cNvSpPr/>
            <p:nvPr/>
          </p:nvSpPr>
          <p:spPr>
            <a:xfrm flipV="1">
              <a:off x="2469240" y="4657680"/>
              <a:ext cx="4357440" cy="783720"/>
            </a:xfrm>
            <a:custGeom>
              <a:avLst/>
              <a:gdLst>
                <a:gd name="textAreaLeft" fmla="*/ 595080 w 4357440"/>
                <a:gd name="textAreaRight" fmla="*/ 3762360 w 4357440"/>
                <a:gd name="textAreaTop" fmla="*/ 106920 h 783720"/>
                <a:gd name="textAreaBottom" fmla="*/ 6768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iological and physiological nee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asic life needs- air, food, shelter, slee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Types of Mental and Emotional Disorder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Organic disorder – mental and emotional disorders resulting from a physical cause.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llness- brain tum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ury – blow  to the 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mical imbalance – drugs to destroy brain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ating Disorders – deep emotional problems related to self – image and self-esteem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quired psychiatric trea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creased among tee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nxiety disorder – a condition in which fear or anxiety prevents one from enjoying life and completing everyday task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m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obias most well kn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women then 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99"/>
                </a:solidFill>
                <a:latin typeface="Tahoma"/>
              </a:rPr>
              <a:t>Mental Health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The feeling you have about yourself and your abilities to deal with problem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issociative disorder – a condition in which someone’s personality changes to the point that the person believes he or she is someone else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nes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personality disor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ood Disorder – a condition in which one mood is experienced almost to the exclusion of other feeling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press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so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pochond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Seeking Help IF You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ave prolonged feeling of depression or hopelessne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eelings that life is out of contro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ability to concentrate or make decisions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ifficulty getting along with oth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tense fea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ersistent difficulty sleeping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Emotional problems coping with a physical illnes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ability to stop destructive behavio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Types of Treatment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sychoanalysis – examines unresolved conflict from the past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ehavior therapy – focuses on the persons behavior now rather then the underlying problem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ont.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175212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roup Therapy- meetings of people with similar problem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hemical Therapy – the use of drugs to treat mental and emotional disorde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(can be dangerous and addictive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66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2120" y="9140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elf –Esteem – pride in and acceptance of yourself; feeling good about yourself and your abilities.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lvl="3" marL="1392120" indent="-198720">
              <a:spcBef>
                <a:spcPts val="10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egins at Birt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-702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ody Image – the view a person has on his or her bod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ositive self talk – talking in a positive way to yourself about yourself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elf – disclosure – telling another person meaningful info about yourself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Emotions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Norma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Everyone has them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Express them in a positive way (not negative)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0 Steps to Improve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f-Este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ink about what you are good at, and build on those abiliti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2. Select supportive and encouraging friend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3. Practice good health habi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-21132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4.  Exercise!!!!!!!!!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Think positiv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rite down 3 things that make you happy everyday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et goals, be realistic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Beware of perfectionis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14688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Make a difference in the world, help other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*Volunteer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Reward yourself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Have fun !!!!!!!!!!!!!!!!!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-34956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elf – Esteem more than any other factors has a direct effect on all 5 aspects of your health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213840"/>
            <a:ext cx="780084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Emotions Examples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81200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Love – strong affection or caring for someone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Happiness – feeling of joy and well being or contentment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ptimism – feeling that life experiences will be positive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umor – a way of expressing some negative emotions in a more positive way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7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Fear – feeling of danger</a:t>
            </a:r>
            <a:br>
              <a:rPr sz="4000"/>
            </a:b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anaging your fears –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lf talk – saying things to yourself to view the fear more realistically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nvironmental planning – rearranging the environment to reduce your fear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Anger – strong feeling or irritation.</a:t>
            </a: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naging anger –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hannel emotions appropriately, so that they are positi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cognize your feelings and the source of the anger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uilt – feeling that you have done something wrong or are responsible for something bad happening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Jealousy – feeling of wanting something that someone else has or of losing something you ha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Loneliness – feeling of isolation or alienation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hyness- being timid or bashfu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19:33:29Z</dcterms:created>
  <dc:creator>workshop</dc:creator>
  <dc:description/>
  <dc:language>en-US</dc:language>
  <cp:lastModifiedBy>LEGION</cp:lastModifiedBy>
  <cp:lastPrinted>2008-06-08T23:00:35Z</cp:lastPrinted>
  <dcterms:modified xsi:type="dcterms:W3CDTF">2016-12-07T08:30:59Z</dcterms:modified>
  <cp:revision>21</cp:revision>
  <dc:subject/>
  <dc:title>Chapter 7</dc:title>
</cp:coreProperties>
</file>